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2F6C65-5F8B-4E0A-9B13-C7D1A8C894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7CF780-EFA7-4181-8D15-DF32DC2EEA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0B98F7-2FE2-4875-A585-EA941C0010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4F7F99-DEBD-473B-8157-74F64DA2DF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002772-29F8-4B5B-8418-929E2B76E0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34F18E-B238-410B-95DA-F8AAE00551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84556B-9FD0-448F-AC89-149904252C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77AEC2-09E1-413B-AC63-37230790C6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474FF7-0896-42AE-88B2-722AF51FC8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8669-E6CD-424D-AB64-DF2BAEA47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2A8F-B82C-4256-9428-A78BDD570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CAE3-95AE-495E-B4B5-810CC24EB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5444-3E4C-47A4-A3B0-8DD0B2A77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ED2F-81B2-4017-A011-219AE2157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9E2E-6874-4F70-8FC6-40AF2DEBE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13CD-B34F-4B5E-ADDA-B53C1EFE9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FAD7-087A-46E3-9D9B-364577A3A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0F65-B91C-469E-BCF2-9D3616008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0951-DC7C-44B1-8FFB-A38CEAA4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CD38-8116-45DD-8D7A-959BA2A3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394B-7B11-4D6E-B389-0820C142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34F127-6576-4F7D-A01E-A00E7F9305F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2:  Colonization, Imperialism, and Indepen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02920" y="1768320"/>
            <a:ext cx="9070920" cy="4989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2743200" y="1600200"/>
            <a:ext cx="50292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 Unit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How did the colonial experience shape the development of modern nations?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58680" y="1979640"/>
            <a:ext cx="10078920" cy="44211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 of World Colonization, 18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ld Colonization, 19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02920" y="1768320"/>
            <a:ext cx="9070920" cy="5546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457200" y="6629400"/>
            <a:ext cx="9144000" cy="520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2"/>
          <a:stretch/>
        </p:blipFill>
        <p:spPr>
          <a:xfrm>
            <a:off x="366840" y="1865160"/>
            <a:ext cx="914400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un never sets on the British Empire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02920" y="1768320"/>
            <a:ext cx="9070920" cy="4989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458640" y="1601640"/>
            <a:ext cx="9142560" cy="548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ld Colonization, 194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58680" y="2155680"/>
            <a:ext cx="10078920" cy="406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583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olonizat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02920" y="1580760"/>
            <a:ext cx="9070920" cy="53643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a “mother country” uses political and military force to establish control of territories (“colonies”) beyond its natural bound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nies typically have “subordinate” status to the mother country – for example, Hawaii is no longer considered an American colony because it has full state status, but from 1893 to 1954 (when it gained statehood) it was “ruled” as a colony by the U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529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mperialis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a stronger country or empire controls a weaker territory in order to exert political, economic, and/or cultural influ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ion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502920" y="1757160"/>
            <a:ext cx="9070920" cy="501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-341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dea that the people living in a particular region and sharing certain cultural characteristics have a common inte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dea drives people to act in the interest of their perceived nation, and sometimes to think less of those belonging to other national cult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lso drives people of a common ethnic group to seek self-rule (independence) in their own n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04:51:13Z</dcterms:created>
  <dc:creator/>
  <dc:description/>
  <dc:language>en-US</dc:language>
  <cp:lastModifiedBy>Dominic Lambek</cp:lastModifiedBy>
  <dcterms:modified xsi:type="dcterms:W3CDTF">2013-11-05T00:57:33Z</dcterms:modified>
  <cp:revision>5</cp:revision>
  <dc:subject/>
  <dc:title>Unit 2:  Colonization, Imperialism, and Independence</dc:title>
</cp:coreProperties>
</file>